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0C1-436E-4ADF-926E-C8E2170E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045-A80D-457D-B204-C82A8D2D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0F3-2553-4F59-AACA-492D64F4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58D-756B-439C-828A-943B1AC4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1AC-A80B-4FD5-8815-E0123D00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956-955E-44F0-9B51-469D947A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420-3782-4E24-A7C3-89C87257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3E4-1F62-4301-A201-6C3FD260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133-5B12-4B53-B126-F0CEC82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087-B4E2-4EFD-AAB9-BDBBE16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5B5-AA4D-4977-8AC7-B800BA8B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E04-8109-4399-A00A-49A2F68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6D2-CD9D-4CE3-8A2C-F9A1BB29A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uts on the 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ference to Tim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is sandy hair, considerably longer than it had been when they dropped in, was lighter now; and his bare back was a mass of dark freckles and peeling sunb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to Jack?  How is he Chang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ck himself shrank at this cry with a hiss of indrawn breath, and for a minute became less a hunter than a furtive thing, ape-like among the tangle of t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ing a leader:  Awesome or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this page &amp; find Ralph’s views on being a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tried to convey the compulsion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rack down and kill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was swallowing him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iends, Enemies, or Frenam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Jack)  “They’re batt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Ralph)  “Crackers.  Remember when we went exploring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y grinned at each other remembering the glamour of the firs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hadowing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3   (Jack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’re hunting sometimes you catch yourself feeling as if---” He flushed suddenly.  “There’s nothing in it of course.  Just a feeling.  But you can feel as if you’re not hunting, but—being hunted, as if something’s behind you all the time in the ju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m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6-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 a flashcard:  Write down 3 things you learn about Simon from these p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52:22Z</dcterms:created>
  <dc:creator>BPS</dc:creator>
  <dc:description/>
  <dc:language>en-US</dc:language>
  <cp:lastModifiedBy>BPS</cp:lastModifiedBy>
  <dcterms:modified xsi:type="dcterms:W3CDTF">2009-12-09T16:01:33Z</dcterms:modified>
  <cp:revision>9</cp:revision>
  <dc:subject/>
  <dc:title>Chapter 3</dc:title>
</cp:coreProperties>
</file>